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829-EEC9-4E0F-A92D-B1C961C8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225-6396-4B8C-B4F3-2179F3C6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1F2-35BA-439C-832B-39B9F031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709-C900-450E-9A03-B094723D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38A-88E3-49E9-9DB5-ADEE3E9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7E1-F728-40AA-A17A-DB69B053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16A-C5FF-4153-B236-3F15D664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F5B-BDF1-4957-9B38-CB78245F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C41-97AF-40CB-B8ED-6DDBA0F9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42A-B4F8-48FD-A52F-91378235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A79-BF6E-4B04-ABC7-05A8DC8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050-8761-4185-820E-A1855B9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871B-C0FE-4356-9397-6010D7F27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 Jok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Cheok F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ong Shao W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ng Jia W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an 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3352680"/>
            <a:ext cx="2666880" cy="2590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What would you call Superman if he lost all his pow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 What do you call a man with a bus on his hea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What gets wet the more you dr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w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) Why did the chicken cross the road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the o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) Why did the turtle cross the roa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the Shell 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) What kind of keys do kids like to carr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-k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) I have 10 legs, 20 arms and 54 feet. What am I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)  Which room has no door, no windows, no floor and no roof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h-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) What gets bigger the more you take awa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) What is bigger when it is upside dow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'6'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houting out the answer or the question will be ski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be chosen at random by Ryan and Cheok F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joke is answered CORRECTLY, the participant will get a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ing harder questions will get you a better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) What do you put in a barrel to make it light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) What starts with a 'P', ends with an 'E' and has a million letters in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) Where was the declaration of independence signe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bot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What question can you never answer yes t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asleep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What do you call a man who shaves 15 times a da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r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 When a boy falls into the water, what is the first thing that he do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w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Why do doctors wear masks when operating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f they made a mistake, no one will know who di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 What is big, red and eats rock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g red rock 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What breaks when you say 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 What are two things you cannot have for breakfas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 and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0:25:12Z</dcterms:created>
  <dc:creator>Rosyth School</dc:creator>
  <dc:description/>
  <dc:language>en-US</dc:language>
  <cp:lastModifiedBy>Rosyth School</cp:lastModifiedBy>
  <dcterms:modified xsi:type="dcterms:W3CDTF">2011-10-25T04:13:38Z</dcterms:modified>
  <cp:revision>4</cp:revision>
  <dc:subject/>
  <dc:title>Q&amp;A Jokes!</dc:title>
</cp:coreProperties>
</file>